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5F1BFA-090A-448B-BECE-C91AF37E6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8DE13-D9CE-4DC0-91DB-881E1A8A1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EF0EE-3DCC-4964-A951-352C0FC75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A91F54-5780-4C02-B4F0-523307C39E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014B21-4A8C-4749-B7AE-ACF36746D7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B2265-714C-4E26-8FF8-7DFECB836B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0D94DA-E1C2-4399-A414-908144A86C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78CADC-3D2A-45AE-9EF9-F544A8E6A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91F198-52C5-484A-951A-35E8E1329C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8C1F63-EC49-4D4E-993F-09BD74136D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C1B72-2E2D-4611-A93C-60BA8C7D0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A0C28-01FC-4A00-AAB4-FD8DD3B9D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8EF6B-2ED5-4C1C-B24A-1639DCD1F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9023F-40BB-4CD4-9569-2C9D12F59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C4A908-0579-4264-B6C4-92E3DAF444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E19943-BAFD-4D52-9B82-8BB7EE681B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0073C3-FC87-4256-BE93-901936586D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35343-68AB-48B8-A844-2891EB0D4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405AD-CCB2-4FAC-870A-A39D6BFA8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0D6E3-7D62-49BD-BAD8-738BF2A21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F4FD4-37C9-49B2-979E-2A5546711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CB5EE-39F3-4CAD-965E-431A3075F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002D2-7F2F-4030-9647-09F59BDD4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9C8E2-338C-4AAD-9E36-96170053C9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84933-E242-4452-AC2A-FA319A187E42}"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4E6A1-6BFA-4E46-A127-3364A7334C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BD647-BC81-4219-9CE2-4F0EA0AC93B2}"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3D0E4-C035-4C42-BF42-9F583BDA2C9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197B2-48CD-41C5-8D0B-56123AC6D30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333000"/>
            <a:ext cx="7848720" cy="1871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ac0000"/>
                </a:solidFill>
                <a:latin typeface="黑体"/>
                <a:ea typeface="黑体"/>
              </a:rPr>
              <a:t>第十章 社会文化与消费行为</a:t>
            </a:r>
            <a:endParaRPr b="1" lang="en-US" sz="4000" spc="-1" strike="noStrike">
              <a:solidFill>
                <a:srgbClr val="330066"/>
              </a:solidFill>
              <a:latin typeface="Arial"/>
            </a:endParaRPr>
          </a:p>
        </p:txBody>
      </p:sp>
      <p:sp>
        <p:nvSpPr>
          <p:cNvPr id="152" name="Rectangle 4"/>
          <p:cNvSpPr/>
          <p:nvPr/>
        </p:nvSpPr>
        <p:spPr>
          <a:xfrm>
            <a:off x="1476360" y="2276640"/>
            <a:ext cx="669600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文化与消费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社会阶层与消费者行为差异</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文化差异与跨文化营销</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社会角色对消费者行为的影响</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F79A3-FD51-437D-B26C-4CE73A8E62C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1835280" y="1719360"/>
            <a:ext cx="685152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跨文化营销研究的意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影响消费者行为的跨文化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消费者行为的跨文化分析</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跨文化营销策略分析</a:t>
            </a:r>
            <a:endParaRPr b="0" lang="en-US" sz="24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标题 1"/>
          <p:cNvSpPr/>
          <p:nvPr/>
        </p:nvSpPr>
        <p:spPr>
          <a:xfrm>
            <a:off x="1042920" y="228600"/>
            <a:ext cx="76438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差异与跨文化营销</a:t>
            </a:r>
            <a:endParaRPr b="0" lang="en-US" sz="32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012DC-2281-4690-BDA5-819E01DB197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620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跨文化营销研究的意义</a:t>
            </a:r>
            <a:endParaRPr b="1" lang="en-US" sz="3200" spc="-1" strike="noStrike">
              <a:solidFill>
                <a:srgbClr val="330066"/>
              </a:solidFill>
              <a:latin typeface="Arial"/>
            </a:endParaRPr>
          </a:p>
        </p:txBody>
      </p:sp>
      <p:sp>
        <p:nvSpPr>
          <p:cNvPr id="192" name=""/>
          <p:cNvSpPr txBox="1"/>
          <p:nvPr/>
        </p:nvSpPr>
        <p:spPr>
          <a:xfrm>
            <a:off x="826560" y="2204640"/>
            <a:ext cx="7581960" cy="4411800"/>
          </a:xfrm>
          <a:prstGeom prst="rect">
            <a:avLst/>
          </a:prstGeom>
          <a:noFill/>
          <a:ln w="0">
            <a:noFill/>
          </a:ln>
        </p:spPr>
        <p:txBody>
          <a:bodyPr anchor="t">
            <a:normAutofit/>
          </a:bodyPr>
          <a:p>
            <a:pPr marL="343080" indent="-343080">
              <a:lnSpc>
                <a:spcPct val="15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400" spc="-1" strike="noStrike">
                <a:solidFill>
                  <a:srgbClr val="000000"/>
                </a:solidFill>
                <a:latin typeface="黑体"/>
                <a:ea typeface="黑体"/>
              </a:rPr>
              <a:t>企业只有深入理解不同国家消费者的文化差异，在产品、品牌、价格、分销渠道、促销和广告等各方面都对目标市场的文化理念进行有效整合，才能提高跨文化营销的能力。</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62D9B-DE5A-407D-A090-7D72EB22F85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50920" y="475920"/>
            <a:ext cx="847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影响消费者行为的跨文化因素</a:t>
            </a:r>
            <a:endParaRPr b="1" lang="en-US" sz="3200" spc="-1" strike="noStrike">
              <a:solidFill>
                <a:srgbClr val="330066"/>
              </a:solidFill>
              <a:latin typeface="Arial"/>
            </a:endParaRPr>
          </a:p>
        </p:txBody>
      </p:sp>
      <p:sp>
        <p:nvSpPr>
          <p:cNvPr id="196" name=""/>
          <p:cNvSpPr txBox="1"/>
          <p:nvPr/>
        </p:nvSpPr>
        <p:spPr>
          <a:xfrm>
            <a:off x="1907640" y="1988640"/>
            <a:ext cx="4691160" cy="441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值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语言</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风俗习惯</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审美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宗教</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DE3DB-B364-4C96-A644-AD9F2B546A9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1" lang="en-US" sz="3200" spc="-1" strike="noStrike">
              <a:solidFill>
                <a:srgbClr val="330066"/>
              </a:solidFill>
              <a:latin typeface="Arial"/>
            </a:endParaRPr>
          </a:p>
        </p:txBody>
      </p:sp>
      <p:pic>
        <p:nvPicPr>
          <p:cNvPr id="200" name="内容占位符 5" descr="跨文化行为分析模型.jpg"/>
          <p:cNvPicPr/>
          <p:nvPr/>
        </p:nvPicPr>
        <p:blipFill>
          <a:blip r:embed="rId1"/>
          <a:stretch/>
        </p:blipFill>
        <p:spPr>
          <a:xfrm>
            <a:off x="1116000" y="1266840"/>
            <a:ext cx="6527880" cy="486396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521B9-2C9A-4FCA-8FB9-71F7D9617A8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0" lang="en-US" sz="3200" spc="-1" strike="noStrike">
              <a:solidFill>
                <a:srgbClr val="000000"/>
              </a:solidFill>
              <a:latin typeface="Arial"/>
            </a:endParaRPr>
          </a:p>
        </p:txBody>
      </p:sp>
      <p:pic>
        <p:nvPicPr>
          <p:cNvPr id="204" name="图片 7" descr="文化层面的定位2.jpg"/>
          <p:cNvPicPr/>
          <p:nvPr/>
        </p:nvPicPr>
        <p:blipFill>
          <a:blip r:embed="rId1"/>
          <a:stretch/>
        </p:blipFill>
        <p:spPr>
          <a:xfrm>
            <a:off x="1042920" y="1239840"/>
            <a:ext cx="6672240" cy="483228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85A4C-4D25-43F0-82C4-9EBEB89BF6D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跨文化营销策略分析</a:t>
            </a:r>
            <a:endParaRPr b="1" lang="en-US" sz="3200" spc="-1" strike="noStrike">
              <a:solidFill>
                <a:srgbClr val="330066"/>
              </a:solidFill>
              <a:latin typeface="Arial"/>
            </a:endParaRPr>
          </a:p>
        </p:txBody>
      </p:sp>
      <p:sp>
        <p:nvSpPr>
          <p:cNvPr id="208" name=""/>
          <p:cNvSpPr txBox="1"/>
          <p:nvPr/>
        </p:nvSpPr>
        <p:spPr>
          <a:xfrm>
            <a:off x="1476000" y="1413000"/>
            <a:ext cx="7139160" cy="4411440"/>
          </a:xfrm>
          <a:prstGeom prst="rect">
            <a:avLst/>
          </a:prstGeom>
          <a:noFill/>
          <a:ln w="0">
            <a:noFill/>
          </a:ln>
        </p:spPr>
        <p:txBody>
          <a:bodyPr anchor="t">
            <a:normAutofit fontScale="90000"/>
          </a:bodyPr>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某一地域的消费者是同质的还是异质的</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某种特定文化下，某一产品能满足何种需要</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需要某一产品的消费者群体有无购买能力</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购买和使用本产品相关的价值观</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产品相关的法律政策限制</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播产品相关信息的方式</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营销是否会引起伦理或道德上问题</a:t>
            </a:r>
            <a:endParaRPr b="0" lang="en-US" sz="2400" spc="-1" strike="noStrike">
              <a:solidFill>
                <a:srgbClr val="000000"/>
              </a:solidFill>
              <a:latin typeface="Arial"/>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75869-19F8-4955-971A-DBFFC0BC1B6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1" name="PlaceHolder 1"/>
          <p:cNvSpPr>
            <a:spLocks noGrp="1"/>
          </p:cNvSpPr>
          <p:nvPr>
            <p:ph type="title"/>
          </p:nvPr>
        </p:nvSpPr>
        <p:spPr>
          <a:xfrm>
            <a:off x="671040" y="40428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角色对消费者行为的影响</a:t>
            </a:r>
            <a:endParaRPr b="1" lang="en-US" sz="3200" spc="-1" strike="noStrike">
              <a:solidFill>
                <a:srgbClr val="330066"/>
              </a:solidFill>
              <a:latin typeface="Arial"/>
            </a:endParaRPr>
          </a:p>
        </p:txBody>
      </p:sp>
      <p:sp>
        <p:nvSpPr>
          <p:cNvPr id="212" name=""/>
          <p:cNvSpPr txBox="1"/>
          <p:nvPr/>
        </p:nvSpPr>
        <p:spPr>
          <a:xfrm>
            <a:off x="1332000" y="1719360"/>
            <a:ext cx="735480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角色的概念与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选择产品时的角色分类</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角色与消费者购买行为</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A2639-C8EE-4D94-A63D-D18EAAD31F8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5" name="PlaceHolder 1"/>
          <p:cNvSpPr>
            <a:spLocks noGrp="1"/>
          </p:cNvSpPr>
          <p:nvPr>
            <p:ph type="title"/>
          </p:nvPr>
        </p:nvSpPr>
        <p:spPr>
          <a:xfrm>
            <a:off x="468000" y="25992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角色的概念和含义</a:t>
            </a:r>
            <a:endParaRPr b="1" lang="en-US" sz="3200" spc="-1" strike="noStrike">
              <a:solidFill>
                <a:srgbClr val="330066"/>
              </a:solidFill>
              <a:latin typeface="Arial"/>
            </a:endParaRPr>
          </a:p>
        </p:txBody>
      </p:sp>
      <p:sp>
        <p:nvSpPr>
          <p:cNvPr id="216" name=""/>
          <p:cNvSpPr txBox="1"/>
          <p:nvPr/>
        </p:nvSpPr>
        <p:spPr>
          <a:xfrm>
            <a:off x="971280" y="1719360"/>
            <a:ext cx="7715160" cy="441144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概念</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社会角色（</a:t>
            </a:r>
            <a:r>
              <a:rPr b="0" lang="en-US" sz="2000" spc="-1" strike="noStrike">
                <a:solidFill>
                  <a:srgbClr val="000000"/>
                </a:solidFill>
                <a:latin typeface="黑体"/>
                <a:ea typeface="黑体"/>
              </a:rPr>
              <a:t>social role</a:t>
            </a:r>
            <a:r>
              <a:rPr b="0" lang="zh-CN" sz="2000" spc="-1" strike="noStrike">
                <a:solidFill>
                  <a:srgbClr val="000000"/>
                </a:solidFill>
                <a:latin typeface="黑体"/>
                <a:ea typeface="黑体"/>
              </a:rPr>
              <a:t>）是指与人们的社会地位、身份相一致的一整套权利、义务的规范与行为模式，它是人们对具有特定身份的人的行为期望，也是构成社会群体或组织的基础。</a:t>
            </a:r>
            <a:endParaRPr b="0" lang="en-US" sz="2000" spc="-1" strike="noStrike">
              <a:solidFill>
                <a:srgbClr val="000000"/>
              </a:solidFill>
              <a:latin typeface="Arial"/>
            </a:endParaRPr>
          </a:p>
          <a:p>
            <a:pPr marL="343080" indent="-343080">
              <a:lnSpc>
                <a:spcPct val="10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含义</a:t>
            </a:r>
            <a:endParaRPr b="0" lang="en-US" sz="24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地位的外在表现</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人们对处于特定地位的人的行为期待</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群体或社会组织的基础</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7EA4F-1B1A-4C4E-A510-FFE258607FD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title"/>
          </p:nvPr>
        </p:nvSpPr>
        <p:spPr>
          <a:xfrm>
            <a:off x="285480" y="122400"/>
            <a:ext cx="771516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1" lang="en-US" sz="3200" spc="-1" strike="noStrike">
              <a:solidFill>
                <a:srgbClr val="330066"/>
              </a:solidFill>
              <a:latin typeface="Arial"/>
            </a:endParaRPr>
          </a:p>
        </p:txBody>
      </p:sp>
      <p:sp>
        <p:nvSpPr>
          <p:cNvPr id="220" name=""/>
          <p:cNvSpPr txBox="1"/>
          <p:nvPr/>
        </p:nvSpPr>
        <p:spPr>
          <a:xfrm>
            <a:off x="468000" y="1267920"/>
            <a:ext cx="8443800" cy="1584360"/>
          </a:xfrm>
          <a:prstGeom prst="rect">
            <a:avLst/>
          </a:prstGeom>
          <a:noFill/>
          <a:ln w="0">
            <a:noFill/>
          </a:ln>
        </p:spPr>
        <p:txBody>
          <a:bodyPr anchor="t">
            <a:norm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者角色的承担者包括了每一个在市场上进行消费活动的社会成员。当社会成员遵从社会规范（包括各种约定俗成或法律的规定）购买商品或接受服务时，就扮演了消费者的角色。</a:t>
            </a:r>
            <a:endParaRPr b="0" lang="en-US" sz="2000" spc="-1" strike="noStrike">
              <a:solidFill>
                <a:srgbClr val="000000"/>
              </a:solidFill>
              <a:latin typeface="Arial"/>
            </a:endParaRPr>
          </a:p>
        </p:txBody>
      </p:sp>
      <p:sp>
        <p:nvSpPr>
          <p:cNvPr id="221" name="内容占位符 2"/>
          <p:cNvSpPr/>
          <p:nvPr/>
        </p:nvSpPr>
        <p:spPr>
          <a:xfrm>
            <a:off x="1403280" y="2924280"/>
            <a:ext cx="8229600" cy="203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角色具有的特征</a:t>
            </a:r>
            <a:endParaRPr b="0" lang="en-US" sz="24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从事的消费活动属于生活消费</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对象既包括商品也包括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活动表现为购买、使用商品和接受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要指个人消费者</a:t>
            </a:r>
            <a:endParaRPr b="0" lang="en-US" sz="2000" spc="-1" strike="noStrike">
              <a:solidFill>
                <a:srgbClr val="000000"/>
              </a:solidFill>
              <a:latin typeface="Arial"/>
            </a:endParaRPr>
          </a:p>
          <a:p>
            <a:pPr lvl="1" marL="743040" indent="-285840">
              <a:lnSpc>
                <a:spcPct val="100000"/>
              </a:lnSpc>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B5431-C5C3-440C-9703-A20DFEFAF10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4" name="内容占位符 2"/>
          <p:cNvSpPr/>
          <p:nvPr/>
        </p:nvSpPr>
        <p:spPr>
          <a:xfrm>
            <a:off x="1476360" y="1773360"/>
            <a:ext cx="722160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产品充当的角色分类</a:t>
            </a:r>
            <a:endParaRPr b="0" lang="en-US" sz="28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高贵身份</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年龄特征</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尊和自我实现</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情感的代言者</a:t>
            </a:r>
            <a:endParaRPr b="0" lang="en-US" sz="20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5" name="标题 1"/>
          <p:cNvSpPr/>
          <p:nvPr/>
        </p:nvSpPr>
        <p:spPr>
          <a:xfrm>
            <a:off x="324000" y="549360"/>
            <a:ext cx="771516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327AB-7270-464F-9C7A-46DFEA77FDE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与消费者行为</a:t>
            </a:r>
            <a:endParaRPr b="1" lang="en-US" sz="3200" spc="-1" strike="noStrike">
              <a:solidFill>
                <a:srgbClr val="330066"/>
              </a:solidFill>
              <a:latin typeface="Arial"/>
            </a:endParaRPr>
          </a:p>
        </p:txBody>
      </p:sp>
      <p:sp>
        <p:nvSpPr>
          <p:cNvPr id="156" name=""/>
          <p:cNvSpPr txBox="1"/>
          <p:nvPr/>
        </p:nvSpPr>
        <p:spPr>
          <a:xfrm>
            <a:off x="1403280" y="2204640"/>
            <a:ext cx="722304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文化的概念和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亚文化与消费差异</a:t>
            </a:r>
            <a:endParaRPr b="0" lang="en-US" sz="3000" spc="-1" strike="noStrike">
              <a:solidFill>
                <a:srgbClr val="000000"/>
              </a:solidFill>
              <a:latin typeface="Arial"/>
            </a:endParaRPr>
          </a:p>
          <a:p>
            <a:pPr marL="762120" indent="-7621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角色与消费者购买行为</a:t>
            </a:r>
            <a:endParaRPr b="1" lang="en-US" sz="3200" spc="-1" strike="noStrike">
              <a:solidFill>
                <a:srgbClr val="330066"/>
              </a:solidFill>
              <a:latin typeface="Arial"/>
            </a:endParaRPr>
          </a:p>
        </p:txBody>
      </p:sp>
      <p:sp>
        <p:nvSpPr>
          <p:cNvPr id="227" name=""/>
          <p:cNvSpPr txBox="1"/>
          <p:nvPr/>
        </p:nvSpPr>
        <p:spPr>
          <a:xfrm>
            <a:off x="2195280" y="1989000"/>
            <a:ext cx="4608360" cy="2718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关联产品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的超载、冲突与演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转化</a:t>
            </a:r>
            <a:endParaRPr b="0" lang="en-US" sz="24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22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E85E8-844F-40F8-8554-EF4041B10BD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39DD4-B430-4A17-B693-3C9AA2D93DC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233" name=""/>
          <p:cNvSpPr txBox="1"/>
          <p:nvPr/>
        </p:nvSpPr>
        <p:spPr>
          <a:xfrm>
            <a:off x="457200" y="1719360"/>
            <a:ext cx="822960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与关联产品集</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关联产品集是指承担某一角色所需要的一系列产品。这些产品或者有助于角色扮演，或者具有重要的象征意义。</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营销者需要确保其产品能满足目标角色的使用或象征性需要，以此使人们为了胜任所承担的角色而进行购买。</a:t>
            </a:r>
            <a:endParaRPr b="0" lang="en-US" sz="28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C063C-754C-4738-BFFA-C7E2963B4D0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37" name=""/>
          <p:cNvSpPr txBox="1"/>
          <p:nvPr/>
        </p:nvSpPr>
        <p:spPr>
          <a:xfrm>
            <a:off x="457200" y="1988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的超载</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超载是指个体超越了时间、金钱和精力所允许的限度而承担太多的角色，或承担对个体有太多要求的角色。</a:t>
            </a:r>
            <a:endParaRPr b="0" lang="en-US" sz="2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E9B12-378D-4DF1-B0ED-5E99D33A756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1" name=""/>
          <p:cNvSpPr txBox="1"/>
          <p:nvPr/>
        </p:nvSpPr>
        <p:spPr>
          <a:xfrm>
            <a:off x="457200" y="1557360"/>
            <a:ext cx="8229600" cy="4573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冲突</a:t>
            </a:r>
            <a:endParaRPr b="0" lang="en-US" sz="3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冲突是指由于个体扮演某一角色或者同时扮演几个不同的社会角色时，所出现的内心冲突与矛盾。</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角色冲突的表现</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同一社会角色内心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社会角色改变时，新旧角色之间发生的矛盾与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承担多种角色时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角色规定的人格与其真实人格之间的矛盾</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4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5C3CB-D7E8-4557-82E7-4B2DE2DBE15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5" name=""/>
          <p:cNvSpPr txBox="1"/>
          <p:nvPr/>
        </p:nvSpPr>
        <p:spPr>
          <a:xfrm>
            <a:off x="468360" y="1196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演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演化是指人们不对某种角色行为的期待随着时代和社会的发展而发生变化。</a:t>
            </a:r>
            <a:endParaRPr b="0" lang="en-US" sz="28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转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个人在社会中所承担的角色并不是固定不变的。随着生活环境的变化和工作的变动，个体会放弃原有的角色，获取新的角色，并自觉或不自觉的从一种角色转化成另一种角色。</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68FEC-85B7-44C2-BE28-69294B2BBE9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0" name=""/>
          <p:cNvSpPr txBox="1"/>
          <p:nvPr/>
        </p:nvSpPr>
        <p:spPr>
          <a:xfrm>
            <a:off x="1116000" y="1483920"/>
            <a:ext cx="7508880" cy="3979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概念</a:t>
            </a:r>
            <a:endParaRPr b="0" lang="en-US" sz="28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广义：人类社会历史实践过程中所创造的物质财富和精神财富的总和</a:t>
            </a:r>
            <a:endParaRPr b="0" lang="en-US" sz="24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狭义：社会的意识形态，以及与之相适应的制度和组织结构</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7BD58-7C97-4D14-B0E5-3701901A6B8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4" name=""/>
          <p:cNvSpPr txBox="1"/>
          <p:nvPr/>
        </p:nvSpPr>
        <p:spPr>
          <a:xfrm>
            <a:off x="1186920" y="1341000"/>
            <a:ext cx="6409080" cy="4411800"/>
          </a:xfrm>
          <a:prstGeom prst="rect">
            <a:avLst/>
          </a:prstGeom>
          <a:noFill/>
          <a:ln w="0">
            <a:noFill/>
          </a:ln>
        </p:spPr>
        <p:txBody>
          <a:bodyPr anchor="t">
            <a:normAutofit fontScale="95000"/>
          </a:bodyPr>
          <a:p>
            <a:pPr marL="325800" indent="-325800">
              <a:lnSpc>
                <a:spcPct val="100000"/>
              </a:lnSpc>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特征</a:t>
            </a:r>
            <a:endParaRPr b="0" lang="en-US" sz="28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学习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发展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社会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民族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观念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484DC-9F63-4F87-BC01-A7EA79EA449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1" lang="en-US" sz="3200" spc="-1" strike="noStrike">
              <a:solidFill>
                <a:srgbClr val="330066"/>
              </a:solidFill>
              <a:latin typeface="Arial"/>
            </a:endParaRPr>
          </a:p>
        </p:txBody>
      </p:sp>
      <p:sp>
        <p:nvSpPr>
          <p:cNvPr id="168" name=""/>
          <p:cNvSpPr txBox="1"/>
          <p:nvPr/>
        </p:nvSpPr>
        <p:spPr>
          <a:xfrm>
            <a:off x="684000" y="1916280"/>
            <a:ext cx="7559640" cy="441144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zh-CN" sz="2400" spc="-1" strike="noStrike">
                <a:solidFill>
                  <a:srgbClr val="000000"/>
                </a:solidFill>
                <a:latin typeface="黑体"/>
                <a:ea typeface="黑体"/>
              </a:rPr>
              <a:t>一个国家或社会的文化由两大部分组成，一部分是全体社会成员所共有的基本核心文化，另一部分就是为部分成员共有的独特的亚文化。亚文化又称为“次文化”、“潜文化”，它是相对于主流文化而言的，是总体文化的次属文化。</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C8E2B-540E-4153-BBC3-0371BB46F57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内容占位符 2"/>
          <p:cNvSpPr/>
          <p:nvPr/>
        </p:nvSpPr>
        <p:spPr>
          <a:xfrm>
            <a:off x="1258920" y="1700280"/>
            <a:ext cx="736596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亚文化的划分维度</a:t>
            </a:r>
            <a:endParaRPr b="0" lang="en-US" sz="28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别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地理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年龄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民族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宗教亚文化</a:t>
            </a:r>
            <a:endParaRPr b="0" lang="en-US" sz="24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2" name="标题 1"/>
          <p:cNvSpPr/>
          <p:nvPr/>
        </p:nvSpPr>
        <p:spPr>
          <a:xfrm>
            <a:off x="468360" y="333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0" lang="en-US" sz="32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A980E-25B5-4377-B891-861AF63AB30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阶层的概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社会阶层对消费者行为的影响</a:t>
            </a:r>
            <a:endParaRPr b="0" lang="en-US" sz="3000" spc="-1" strike="noStrike">
              <a:solidFill>
                <a:srgbClr val="000000"/>
              </a:solidFill>
              <a:latin typeface="Arial"/>
            </a:endParaRPr>
          </a:p>
        </p:txBody>
      </p:sp>
      <p:sp>
        <p:nvSpPr>
          <p:cNvPr id="176" name="标题 1"/>
          <p:cNvSpPr/>
          <p:nvPr/>
        </p:nvSpPr>
        <p:spPr>
          <a:xfrm>
            <a:off x="684360" y="228600"/>
            <a:ext cx="8002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阶层与消费者行为差异</a:t>
            </a:r>
            <a:endParaRPr b="0" lang="en-US" sz="32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5105F-2DBD-48C5-8106-430E01364D5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阶层的概念</a:t>
            </a:r>
            <a:endParaRPr b="1" lang="en-US" sz="3200" spc="-1" strike="noStrike">
              <a:solidFill>
                <a:srgbClr val="330066"/>
              </a:solidFill>
              <a:latin typeface="Arial"/>
            </a:endParaRPr>
          </a:p>
        </p:txBody>
      </p:sp>
      <p:sp>
        <p:nvSpPr>
          <p:cNvPr id="180" name=""/>
          <p:cNvSpPr txBox="1"/>
          <p:nvPr/>
        </p:nvSpPr>
        <p:spPr>
          <a:xfrm>
            <a:off x="539640" y="1483920"/>
            <a:ext cx="8229600" cy="44118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黑体"/>
                <a:ea typeface="黑体"/>
              </a:rPr>
              <a:t>社会阶层</a:t>
            </a: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      </a:t>
            </a:r>
            <a:r>
              <a:rPr b="0" lang="zh-CN" sz="2400" spc="-1" strike="noStrike">
                <a:solidFill>
                  <a:srgbClr val="000000"/>
                </a:solidFill>
                <a:latin typeface="黑体"/>
                <a:ea typeface="黑体"/>
              </a:rPr>
              <a:t>社会阶层通常是指消费者在社会中所处的地位，是由收入、家庭背景和职业等一系列复杂变量决定的。</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社会阶层既能直接影响所处其中的社会成员的消费行为，又会通过影响人们的其他特性如个人价值观、决策方式等间接影响消费者的行为。</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69AF5-1B2F-4052-97A3-C7B73DFD735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title"/>
          </p:nvPr>
        </p:nvSpPr>
        <p:spPr>
          <a:xfrm>
            <a:off x="356760" y="122400"/>
            <a:ext cx="76438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社会阶层对消费者行为的影响</a:t>
            </a:r>
            <a:endParaRPr b="1" lang="en-US" sz="3200" spc="-1" strike="noStrike">
              <a:solidFill>
                <a:srgbClr val="330066"/>
              </a:solidFill>
              <a:latin typeface="Arial"/>
            </a:endParaRPr>
          </a:p>
        </p:txBody>
      </p:sp>
      <p:sp>
        <p:nvSpPr>
          <p:cNvPr id="184" name=""/>
          <p:cNvSpPr txBox="1"/>
          <p:nvPr/>
        </p:nvSpPr>
        <p:spPr>
          <a:xfrm>
            <a:off x="2050560" y="1719360"/>
            <a:ext cx="663588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观念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在支出模式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文化品味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信息搜集和处理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新产品购买上的差异</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9:04:29Z</dcterms:modified>
  <cp:revision>155</cp:revision>
  <dc:subject/>
  <dc:title>PowerPoint 演示文稿</dc:title>
</cp:coreProperties>
</file>